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0012-038D-4B7E-9CBE-A58F07B81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3B81-3F82-4BDA-99C5-4C18502D8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D4CE-B85F-44BF-BE8A-2AD647A7E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3B13-8F59-486B-A693-201DA8723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843A-9030-4012-AB88-AADBB52E9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4C4D-9A17-43A2-B50E-9194C0DA1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3BA9-B476-4126-BEF4-17752344B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690F-E850-4B82-AB8F-DD8CACF9A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C08C-FB4D-4BA1-A291-D5E020883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F09-1A3C-47CB-9887-52CB8AEBF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BE4F-E370-44FD-89ED-72D1136A9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D087-57FB-4542-BD95-76BEDA5BE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422C-E14E-49C2-9FAD-9A5DE9DE5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E0BC-BD67-4F4E-879D-CDFA79752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4A54-E5DD-48B4-801B-C52150C07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4A8D-0058-47F0-A825-CFF847A6E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87C0-FD2B-417F-B327-E9B930E84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4631-C6EC-46EC-9000-326EDF92B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4FA0-9B78-4C8C-AA74-A8BBF7A47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AE7-2DC5-4CF9-85C4-2C88A32B2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55C4-20D8-4320-BFA2-EC92933F7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ACA-76CF-45B0-9F44-B1C845E6C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68A-B50F-49A2-81E1-E69C91F1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C8B-F306-426E-BE54-79E812E9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103-349E-4CBC-BD19-D615BB5D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C55-3A60-4B58-995D-CC15BBF2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859-5221-423D-8E36-379B43CF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240-506B-44B3-8D18-C34053E4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933-7068-4F63-8797-E6AB323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4791-0E62-4ECE-8777-36E97690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62B-D987-4EFF-A1DD-89532343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DA0-AE5E-47AA-8A04-5F51BDA6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F1E-9D63-4647-84D5-6EBCB6A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3C19-10FD-44D6-ACDA-51A1757B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2C51-1174-4FA6-B5FE-A506EB3B71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21Z</dcterms:modified>
  <cp:revision>313</cp:revision>
  <dc:subject/>
  <dc:title>PowerPoint Presentation</dc:title>
</cp:coreProperties>
</file>